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23F4-0B71-4662-A334-6B5055B940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2E7-D485-48F0-B848-B2CEDBD1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96C-34E9-4DBF-84BA-E4EDEFA9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19FA-CF15-4221-B327-F0B10FD4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B19-FA8F-47F8-89CA-492B3D6D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D60-FDFE-4F45-B4E5-277FC4C8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6339-E9B1-4C21-86FF-27D9D033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AD9-1E1F-4F38-9FA9-65DE1B2E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0FB-0820-49C7-969A-24C9FC76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742-2276-4524-9C14-FB564881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1E5-4E41-46E0-BC80-FA97625C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9461-7E81-4C08-98F6-BFB7056E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9FC-7D2D-4428-9429-E0BE5324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95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4BF1-C55F-4813-BDE3-6672B4A79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Sand Dun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DDB5-C782-4DB6-AAFD-20E507B08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58800" y="3581280"/>
            <a:ext cx="787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UK - around 7-8% of coast has vegetated dunes.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04800" y="4800600"/>
            <a:ext cx="800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Needs vegetation, low rainfall, strong winds and abundant s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3082-5DCA-4FFB-9029-EBC4866D7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l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nd blown downwind. Transfers energy through other gr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75% of sand moved by    this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urface Cr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y product of sal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ushed along sand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Must be 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4821120" y="1752480"/>
          <a:ext cx="432288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1120" y="1752480"/>
                    <a:ext cx="43228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6C01-9031-4C2C-A10A-F2C844346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mbryo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bstacle forces deposition of 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4648320" y="4030560"/>
            <a:ext cx="4306680" cy="1354320"/>
          </a:xfrm>
          <a:custGeom>
            <a:avLst/>
            <a:gdLst/>
            <a:ahLst/>
            <a:rect l="l" t="t" r="r" b="b"/>
            <a:pathLst>
              <a:path w="2713" h="853">
                <a:moveTo>
                  <a:pt x="0" y="853"/>
                </a:moveTo>
                <a:cubicBezTo>
                  <a:pt x="168" y="785"/>
                  <a:pt x="336" y="717"/>
                  <a:pt x="432" y="661"/>
                </a:cubicBezTo>
                <a:cubicBezTo>
                  <a:pt x="528" y="605"/>
                  <a:pt x="528" y="533"/>
                  <a:pt x="576" y="517"/>
                </a:cubicBezTo>
                <a:cubicBezTo>
                  <a:pt x="624" y="501"/>
                  <a:pt x="672" y="573"/>
                  <a:pt x="720" y="565"/>
                </a:cubicBezTo>
                <a:cubicBezTo>
                  <a:pt x="768" y="557"/>
                  <a:pt x="816" y="477"/>
                  <a:pt x="864" y="469"/>
                </a:cubicBezTo>
                <a:cubicBezTo>
                  <a:pt x="912" y="461"/>
                  <a:pt x="960" y="541"/>
                  <a:pt x="1008" y="517"/>
                </a:cubicBezTo>
                <a:cubicBezTo>
                  <a:pt x="1056" y="493"/>
                  <a:pt x="1096" y="325"/>
                  <a:pt x="1152" y="325"/>
                </a:cubicBezTo>
                <a:cubicBezTo>
                  <a:pt x="1208" y="325"/>
                  <a:pt x="1264" y="557"/>
                  <a:pt x="1344" y="517"/>
                </a:cubicBezTo>
                <a:cubicBezTo>
                  <a:pt x="1424" y="477"/>
                  <a:pt x="1566" y="170"/>
                  <a:pt x="1632" y="85"/>
                </a:cubicBezTo>
                <a:cubicBezTo>
                  <a:pt x="1698" y="0"/>
                  <a:pt x="1707" y="5"/>
                  <a:pt x="1739" y="5"/>
                </a:cubicBezTo>
                <a:cubicBezTo>
                  <a:pt x="1771" y="5"/>
                  <a:pt x="1786" y="8"/>
                  <a:pt x="1824" y="85"/>
                </a:cubicBezTo>
                <a:cubicBezTo>
                  <a:pt x="1862" y="162"/>
                  <a:pt x="1920" y="413"/>
                  <a:pt x="1968" y="469"/>
                </a:cubicBezTo>
                <a:cubicBezTo>
                  <a:pt x="2016" y="525"/>
                  <a:pt x="2064" y="485"/>
                  <a:pt x="2112" y="421"/>
                </a:cubicBezTo>
                <a:cubicBezTo>
                  <a:pt x="2160" y="357"/>
                  <a:pt x="2200" y="141"/>
                  <a:pt x="2256" y="85"/>
                </a:cubicBezTo>
                <a:cubicBezTo>
                  <a:pt x="2312" y="29"/>
                  <a:pt x="2392" y="21"/>
                  <a:pt x="2448" y="85"/>
                </a:cubicBezTo>
                <a:cubicBezTo>
                  <a:pt x="2504" y="149"/>
                  <a:pt x="2548" y="415"/>
                  <a:pt x="2592" y="469"/>
                </a:cubicBezTo>
                <a:cubicBezTo>
                  <a:pt x="2636" y="523"/>
                  <a:pt x="2688" y="425"/>
                  <a:pt x="2713" y="4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7242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464832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 flipV="1">
            <a:off x="6095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86868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095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7315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457164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 flipV="1">
            <a:off x="46483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518148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771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>
            <a:off x="777240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685800" y="3124080"/>
            <a:ext cx="38098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Fore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mbryo dunes coalesce late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762120" y="4572000"/>
            <a:ext cx="37335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Grey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cludes 1st, 2nd, 3rd dune ridges etc. Growth of fore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EF82-625A-4BFF-A156-575173A41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704880" y="2028960"/>
          <a:ext cx="776124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28960"/>
                    <a:ext cx="776124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7F8E-48AD-43D2-B096-1E9AFA207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ay Dunes eg. Stud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Spit Dunes eg. Ynyslas, se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Hindshore Dunes eg. Merthyr Maw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Ness or Forland Dunes eg. Tentsmu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Offshore Island Dunes eg. Scott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4724280" y="3352680"/>
          <a:ext cx="2810160" cy="211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352680"/>
                    <a:ext cx="281016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6"/>
          <p:cNvSpPr/>
          <p:nvPr/>
        </p:nvSpPr>
        <p:spPr>
          <a:xfrm>
            <a:off x="4648320" y="548640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02920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nyslas D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6476760" y="3962520"/>
            <a:ext cx="1523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9:34:56Z</dcterms:created>
  <dc:creator>Lindsey Wood</dc:creator>
  <dc:description/>
  <dc:language>en-US</dc:language>
  <cp:lastModifiedBy>RomaK</cp:lastModifiedBy>
  <dcterms:modified xsi:type="dcterms:W3CDTF">2015-09-04T09:41:05Z</dcterms:modified>
  <cp:revision>39</cp:revision>
  <dc:subject/>
  <dc:title>Coastal Environments</dc:title>
</cp:coreProperties>
</file>